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DD1-FDE7-410A-9BE4-047A292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24C-4D10-4A90-9B6D-721437A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718-A82B-4A74-96DD-021D58A0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F5B-96D0-4C45-9676-C43C4085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044-AD8D-4371-BBB6-0B028DB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BA4-183D-49F0-B2D9-DDD4A60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FF6-1830-4027-977A-CB7061E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E59-1AFB-4E2A-B141-0C6DC91A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ACA-0E0E-4AC8-83EB-9F58238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F8C-B0CA-4AA2-BB11-ACFD022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EBB-D44F-4370-BDF1-2357836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EEB-5E6A-4743-B9A5-103932E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6035-FC00-4735-93CA-6340E33F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851040"/>
            <a:ext cx="81360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95480" y="457200"/>
            <a:ext cx="695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8:28:29Z</dcterms:created>
  <dc:creator>M</dc:creator>
  <dc:description/>
  <dc:language>en-US</dc:language>
  <cp:lastModifiedBy>M</cp:lastModifiedBy>
  <dcterms:modified xsi:type="dcterms:W3CDTF">2010-10-22T08:29:28Z</dcterms:modified>
  <cp:revision>1</cp:revision>
  <dc:subject/>
  <dc:title>Folie 1</dc:title>
</cp:coreProperties>
</file>